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84A-79AB-4E80-B61E-D4C8D7B4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82D-2856-4EBC-9271-0726077E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271-30A6-4EC0-8F11-309F1742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460-8043-4DB1-A481-039A00FA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C06-95E0-4E07-A50D-0DCC7CE0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906-CDA6-4996-889C-695EF5C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9E0-A8A7-437F-A73F-6F00A6E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6AC-7E73-4158-85EB-BEFEA01F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460-92B7-48B4-9338-D6AE049B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E52-A14A-49E4-A88A-5AB2487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DE5-299A-47BA-AAD0-55172EEA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122-2AEC-4E7B-9358-8681A1F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A6B9-7FA8-42A8-A083-BAD3E93AF5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主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396720" y="1989000"/>
            <a:ext cx="835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听听，秋的声音</a:t>
            </a:r>
            <a:endParaRPr b="1" lang="en-US" sz="9600" spc="1" strike="noStrike">
              <a:ln w="19080">
                <a:solidFill>
                  <a:srgbClr val="ffff00"/>
                </a:solidFill>
                <a:round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9640" y="476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人教新课标三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2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排排大雁追上白云，撒下一阵暖暖的叮咛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雁好像在说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“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4857840" y="4429080"/>
            <a:ext cx="3500280" cy="180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8"/>
          <p:cNvSpPr/>
          <p:nvPr/>
        </p:nvSpPr>
        <p:spPr>
          <a:xfrm>
            <a:off x="1000080" y="5214960"/>
            <a:ext cx="2643120" cy="144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阵阵秋风掠过田野，发出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声音，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是秋风送来的丰收的歌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田野热情地说：“                                  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7"/>
          <p:cNvSpPr/>
          <p:nvPr/>
        </p:nvSpPr>
        <p:spPr>
          <a:xfrm>
            <a:off x="7358040" y="2214720"/>
            <a:ext cx="1071720" cy="144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9"/>
          <p:cNvSpPr/>
          <p:nvPr/>
        </p:nvSpPr>
        <p:spPr>
          <a:xfrm>
            <a:off x="4714920" y="4143240"/>
            <a:ext cx="3357360" cy="180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内容占位符 3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2286000" y="0"/>
            <a:ext cx="4572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抖抖手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刷刷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黄叶道别的话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蟋蟀振动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和阳台告别的歌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排排大雁追上白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撒下一阵暖暖的叮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阵阵秋风掠过田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送来一片丰收的歌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未命名"/>
          <p:cNvPicPr/>
          <p:nvPr/>
        </p:nvPicPr>
        <p:blipFill>
          <a:blip r:embed="rId2"/>
          <a:stretch/>
        </p:blipFill>
        <p:spPr>
          <a:xfrm>
            <a:off x="2857680" y="392904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未命名"/>
          <p:cNvPicPr/>
          <p:nvPr/>
        </p:nvPicPr>
        <p:blipFill>
          <a:blip r:embed="rId3"/>
          <a:stretch/>
        </p:blipFill>
        <p:spPr>
          <a:xfrm>
            <a:off x="4000680" y="3929040"/>
            <a:ext cx="533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t011144b2c0ef3399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46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6429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行楷"/>
                <a:ea typeface="华文行楷"/>
              </a:rPr>
              <a:t>想象创作，续写小诗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2642760"/>
            <a:ext cx="79725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四人小组合作写诗，每人一节，合成一首诗歌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为组里写的诗配上合适的图画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风声"/>
          <p:cNvPicPr/>
          <p:nvPr/>
        </p:nvPicPr>
        <p:blipFill>
          <a:blip r:embed="rId1"/>
          <a:srcRect l="0" t="0" r="2687" b="18494"/>
          <a:stretch/>
        </p:blipFill>
        <p:spPr>
          <a:xfrm>
            <a:off x="0" y="7308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流水图"/>
          <p:cNvPicPr/>
          <p:nvPr/>
        </p:nvPicPr>
        <p:blipFill>
          <a:blip r:embed="rId1"/>
          <a:stretch/>
        </p:blipFill>
        <p:spPr>
          <a:xfrm>
            <a:off x="0" y="0"/>
            <a:ext cx="954072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雨声"/>
          <p:cNvPicPr/>
          <p:nvPr/>
        </p:nvPicPr>
        <p:blipFill>
          <a:blip r:embed="rId1"/>
          <a:stretch/>
        </p:blipFill>
        <p:spPr>
          <a:xfrm>
            <a:off x="-324000" y="-243000"/>
            <a:ext cx="9792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风声"/>
          <p:cNvPicPr/>
          <p:nvPr/>
        </p:nvPicPr>
        <p:blipFill>
          <a:blip r:embed="rId1"/>
          <a:stretch/>
        </p:blipFill>
        <p:spPr>
          <a:xfrm>
            <a:off x="179280" y="0"/>
            <a:ext cx="3780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流水图"/>
          <p:cNvPicPr/>
          <p:nvPr/>
        </p:nvPicPr>
        <p:blipFill>
          <a:blip r:embed="rId2"/>
          <a:stretch/>
        </p:blipFill>
        <p:spPr>
          <a:xfrm>
            <a:off x="5111640" y="0"/>
            <a:ext cx="403236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雨声"/>
          <p:cNvPicPr/>
          <p:nvPr/>
        </p:nvPicPr>
        <p:blipFill>
          <a:blip r:embed="rId3"/>
          <a:srcRect l="0" t="0" r="1152" b="8002"/>
          <a:stretch/>
        </p:blipFill>
        <p:spPr>
          <a:xfrm>
            <a:off x="0" y="2897280"/>
            <a:ext cx="313200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"/>
          <p:cNvGrpSpPr/>
          <p:nvPr/>
        </p:nvGrpSpPr>
        <p:grpSpPr>
          <a:xfrm>
            <a:off x="2987640" y="3141720"/>
            <a:ext cx="4176720" cy="4608720"/>
            <a:chOff x="2987640" y="3141720"/>
            <a:chExt cx="4176720" cy="4608720"/>
          </a:xfrm>
        </p:grpSpPr>
        <p:sp>
          <p:nvSpPr>
            <p:cNvPr id="115" name="Text Box 6"/>
            <p:cNvSpPr/>
            <p:nvPr/>
          </p:nvSpPr>
          <p:spPr>
            <a:xfrm>
              <a:off x="2987640" y="3141720"/>
              <a:ext cx="417672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听听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秋的声音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           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“</a:t>
              </a: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”</a:t>
              </a: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。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132360" y="5013360"/>
              <a:ext cx="2663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132360" y="56628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3203640" y="62373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10" descr="22"/>
          <p:cNvPicPr/>
          <p:nvPr/>
        </p:nvPicPr>
        <p:blipFill>
          <a:blip r:embed="rId4"/>
          <a:stretch/>
        </p:blipFill>
        <p:spPr>
          <a:xfrm>
            <a:off x="5867280" y="2924280"/>
            <a:ext cx="3095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55640" y="54936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189000"/>
            <a:ext cx="4535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走进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走进这辽阔的音乐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你好好地去听秋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片叶子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朵小花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滴汗水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在每一颗绽开的谷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从远方匆匆地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向远方匆匆地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我们听到了秋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主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396720" y="1989000"/>
            <a:ext cx="835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听听，秋的声音</a:t>
            </a:r>
            <a:endParaRPr b="1" lang="en-US" sz="9600" spc="1" strike="noStrike">
              <a:ln w="19080">
                <a:solidFill>
                  <a:srgbClr val="ffff00"/>
                </a:solidFill>
                <a:round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t011144b2c0ef3399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23" name="矩形 6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500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自由朗读，读准字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通读全文，说说你在诗中听到了哪些声音？你最喜欢哪种声音？多读几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2514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臂   刷 牙 　蟋 蟀   振 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韵 律  叮 咛 　掠 过   吟 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辽 阔  大 厅 　绽 开   匆 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357200" y="200016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b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43280" y="20001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xī shu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928800" y="507204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l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643800" y="50720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c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705720" y="1981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zh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4714920" y="5072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z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357720" y="5072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t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857160" y="342900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y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500200" y="34290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dīng  n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786200" y="3429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lü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6786720" y="3429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y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2571840" y="1928880"/>
            <a:ext cx="11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shuā</a:t>
            </a:r>
            <a:r>
              <a:rPr b="0" lang="en-US" sz="2800" spc="-1" strike="noStrike">
                <a:solidFill>
                  <a:srgbClr val="1f497d"/>
                </a:solidFill>
                <a:latin typeface="zypyyb"/>
                <a:ea typeface="zypyy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3" descr="C:\Documents and Settings\zyan\桌面\a2-2.gif"/>
          <p:cNvPicPr/>
          <p:nvPr/>
        </p:nvPicPr>
        <p:blipFill>
          <a:blip r:embed="rId1"/>
          <a:stretch/>
        </p:blipFill>
        <p:spPr>
          <a:xfrm>
            <a:off x="8153280" y="5973840"/>
            <a:ext cx="91440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第一节"/>
          <p:cNvPicPr/>
          <p:nvPr/>
        </p:nvPicPr>
        <p:blipFill>
          <a:blip r:embed="rId1"/>
          <a:stretch/>
        </p:blipFill>
        <p:spPr>
          <a:xfrm>
            <a:off x="-68436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788000" y="1052640"/>
            <a:ext cx="4824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听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秋的声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大树抖抖手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刷刷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是黄叶道别的话音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851280" y="5877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xishuai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3492360" y="5950080"/>
            <a:ext cx="648000" cy="5745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4"/>
          <p:cNvSpPr/>
          <p:nvPr/>
        </p:nvSpPr>
        <p:spPr>
          <a:xfrm>
            <a:off x="468360" y="595008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5993" y="3794"/>
                </a:moveTo>
                <a:lnTo>
                  <a:pt x="20005" y="10800"/>
                </a:lnTo>
                <a:lnTo>
                  <a:pt x="59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4284720" y="1052640"/>
            <a:ext cx="5472000" cy="4411440"/>
            <a:chOff x="4284720" y="1052640"/>
            <a:chExt cx="5472000" cy="4411440"/>
          </a:xfrm>
        </p:grpSpPr>
        <p:sp>
          <p:nvSpPr>
            <p:cNvPr id="72" name="Text Box 6"/>
            <p:cNvSpPr/>
            <p:nvPr/>
          </p:nvSpPr>
          <p:spPr>
            <a:xfrm>
              <a:off x="4284720" y="1052640"/>
              <a:ext cx="54720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听听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秋的声音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蟋蟀振动翅膀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　　</a:t>
              </a:r>
              <a:r>
                <a:rPr b="1" lang="zh-CN" sz="40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”</a:t>
              </a: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是和阳台告别的歌韵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7"/>
            <p:cNvGrpSpPr/>
            <p:nvPr/>
          </p:nvGrpSpPr>
          <p:grpSpPr>
            <a:xfrm>
              <a:off x="4859280" y="3917880"/>
              <a:ext cx="1109880" cy="463680"/>
              <a:chOff x="4859280" y="3917880"/>
              <a:chExt cx="1109880" cy="463680"/>
            </a:xfrm>
          </p:grpSpPr>
          <p:pic>
            <p:nvPicPr>
              <p:cNvPr id="74" name="Picture 8" descr="未命名"/>
              <p:cNvPicPr/>
              <p:nvPr/>
            </p:nvPicPr>
            <p:blipFill>
              <a:blip r:embed="rId3"/>
              <a:stretch/>
            </p:blipFill>
            <p:spPr>
              <a:xfrm>
                <a:off x="4859280" y="3933720"/>
                <a:ext cx="533520" cy="44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9" descr="未命名"/>
              <p:cNvPicPr/>
              <p:nvPr/>
            </p:nvPicPr>
            <p:blipFill>
              <a:blip r:embed="rId4"/>
              <a:stretch/>
            </p:blipFill>
            <p:spPr>
              <a:xfrm>
                <a:off x="5435640" y="3917880"/>
                <a:ext cx="533520" cy="44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8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大雁清晰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050920" y="364500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排排大雁追上白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撒下一阵暖暖的叮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817236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2400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50920" y="5229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阵阵秋风掠过田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送来一片丰收的歌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" descr="t011144b2c0ef3399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030a0"/>
                </a:solidFill>
                <a:latin typeface="华文行楷"/>
                <a:ea typeface="华文行楷"/>
              </a:rPr>
              <a:t>想象大比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大树抖抖手臂，“刷刷”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是黄叶道别的声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黄叶对大树妈妈说：“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8"/>
          <p:cNvSpPr/>
          <p:nvPr/>
        </p:nvSpPr>
        <p:spPr>
          <a:xfrm>
            <a:off x="5357880" y="4643280"/>
            <a:ext cx="3357360" cy="180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2"/>
          <p:cNvSpPr/>
          <p:nvPr/>
        </p:nvSpPr>
        <p:spPr>
          <a:xfrm>
            <a:off x="1143000" y="5357880"/>
            <a:ext cx="3857760" cy="144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9252150_101558618326_2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蟋蟀振动翅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“        ”，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和阳台告别的歌韵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蟋蟀悄悄地说：“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。”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未命名"/>
          <p:cNvPicPr/>
          <p:nvPr/>
        </p:nvPicPr>
        <p:blipFill>
          <a:blip r:embed="rId2"/>
          <a:stretch/>
        </p:blipFill>
        <p:spPr>
          <a:xfrm>
            <a:off x="5000760" y="1857240"/>
            <a:ext cx="53316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未命名"/>
          <p:cNvPicPr/>
          <p:nvPr/>
        </p:nvPicPr>
        <p:blipFill>
          <a:blip r:embed="rId3"/>
          <a:stretch/>
        </p:blipFill>
        <p:spPr>
          <a:xfrm>
            <a:off x="6000840" y="185724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8"/>
          <p:cNvSpPr/>
          <p:nvPr/>
        </p:nvSpPr>
        <p:spPr>
          <a:xfrm>
            <a:off x="4929120" y="3857760"/>
            <a:ext cx="3000600" cy="144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0"/>
          <p:cNvSpPr/>
          <p:nvPr/>
        </p:nvSpPr>
        <p:spPr>
          <a:xfrm>
            <a:off x="928800" y="4572000"/>
            <a:ext cx="3643200" cy="1440"/>
          </a:xfrm>
          <a:prstGeom prst="line">
            <a:avLst/>
          </a:prstGeom>
          <a:ln w="284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5:42:37Z</dcterms:created>
  <dc:creator>SYQ</dc:creator>
  <dc:description/>
  <dc:language>en-US</dc:language>
  <cp:lastModifiedBy>小慕</cp:lastModifiedBy>
  <dcterms:modified xsi:type="dcterms:W3CDTF">2018-09-16T01:31:23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